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51.jpeg" ContentType="image/jpe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9925050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7000" y="507960"/>
            <a:ext cx="3392640" cy="25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0920"/>
            <a:ext cx="79423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41840"/>
            <a:ext cx="43020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41840"/>
            <a:ext cx="43023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7D98-EF17-4481-9663-DED6D33F03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267000" y="507960"/>
            <a:ext cx="3392640" cy="2543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92160" y="3220920"/>
            <a:ext cx="794232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5622840" y="6442200"/>
            <a:ext cx="4302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0604-EC27-4BEB-ACA7-3515C5810B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39C-540E-4390-B119-0B26BF72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0D9-82C2-42FD-8994-94A70398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313-4D79-4222-9A65-EC340516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C2C-680D-455D-AED9-6D908404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292-AABE-49AD-B1BE-182504E4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C34-83B6-4086-839C-6EAABCA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C40-E027-46F2-9042-A06B36F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026-8BE1-4354-8620-DE8F023F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F0B-7BC9-4C2A-ABC3-593C2CB5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A7D-C7B3-48B5-96CF-4E21B5C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59E-5C9D-4C64-B00D-2635A573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9F5-6F52-41FA-90C3-7C2CA8D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3FD7-72DD-41C5-86D0-75862FA3D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ostest.ru/" TargetMode="External"/><Relationship Id="rId2" Type="http://schemas.openxmlformats.org/officeDocument/2006/relationships/hyperlink" Target="http://www.rostest.ru/" TargetMode="External"/><Relationship Id="rId3" Type="http://schemas.openxmlformats.org/officeDocument/2006/relationships/hyperlink" Target="http://www.rostest.ru/" TargetMode="External"/><Relationship Id="rId4" Type="http://schemas.openxmlformats.org/officeDocument/2006/relationships/hyperlink" Target="http://www.rostest.ru/" TargetMode="External"/><Relationship Id="rId5" Type="http://schemas.openxmlformats.org/officeDocument/2006/relationships/hyperlink" Target="http://www.rostest.ru/certification_ALL/" TargetMode="External"/><Relationship Id="rId6" Type="http://schemas.openxmlformats.org/officeDocument/2006/relationships/hyperlink" Target="http://www.rostest.ru/certification_ALL/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8;&#1072;&#1074;&#1085;&#1077;&#1085;&#1080;&#1077;" TargetMode="External"/><Relationship Id="rId2" Type="http://schemas.openxmlformats.org/officeDocument/2006/relationships/hyperlink" Target="http://ru.wikipedia.org/wiki/&#1040;&#1087;&#1088;&#1080;&#1086;&#1088;&#1080;" TargetMode="External"/><Relationship Id="rId3" Type="http://schemas.openxmlformats.org/officeDocument/2006/relationships/hyperlink" Target="http://ru.wikipedia.org/wiki/&#1054;&#1082;&#1088;&#1091;&#1075;&#1083;&#1077;&#1085;&#1080;&#1077;" TargetMode="External"/><Relationship Id="rId4" Type="http://schemas.openxmlformats.org/officeDocument/2006/relationships/hyperlink" Target="http://ru.wikipedia.org/wiki/&#1057;&#1083;&#1091;&#1095;&#1072;&#1081;&#1085;&#1072;&#1103;_&#1074;&#1077;&#1083;&#1080;&#1095;&#1080;&#1085;&#1072;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ехнические методы диагностических исследований и лечебных воздейст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428760" y="285840"/>
            <a:ext cx="82864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Электрон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область науки и техники, изучающая взаимодействие электронов с электрическими и магнитными полями, а также устройства на основе этого взаимодействия (полупроводниковые, электровакуумные и д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Медицинская электрон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разделы электроники и аппаратура, используемые для решения медико-биологических задач. Развитие медицинской электроники стало основой создания новых высокотехнологичных диагностических и терапевтических методов (МРТ, РКТ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еотпускающий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14200" y="78588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г неотпускающего тока – это минимальное значение тока, при котором происходит сокращение мышц до такой степени, что человек не может самостоятельно расслабить их – 15 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асен ток – 50 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мость средних значений порога ощутимого (1) и неотпускающего (2) токов от частоты представлена на графи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571840" y="3786120"/>
            <a:ext cx="36432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щитное зазе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214200" y="78588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щитное заземл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это электрическое соединение металлического корпуса прибора с землей. Сопротивление заземление не более 4 Ом, подсоединено параллельно сопротивлению тел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0" y="585792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мыкание на корпус в трёхфазной изолированной от земл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0" y="2701800"/>
            <a:ext cx="5143680" cy="311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5786280" y="2266920"/>
            <a:ext cx="3357720" cy="3589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5429160" y="5929200"/>
            <a:ext cx="371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ное заземление в трёхфазной сети с глухозаземлённой нейтрал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2571840" y="2203560"/>
            <a:ext cx="4000320" cy="4654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ну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14200" y="78588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нуление – это электрическое соединение корпуса прибора (металлического) с нулевым проводом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щитное зануление применяется при подключении приборов к трехфазной сети с заземленной нейтрал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0" y="342900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щитный пр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7358040" y="250020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ий пр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H="1" flipV="1">
            <a:off x="1071720" y="4285800"/>
            <a:ext cx="2428560" cy="500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1"/>
          <p:cNvSpPr/>
          <p:nvPr/>
        </p:nvSpPr>
        <p:spPr>
          <a:xfrm flipV="1">
            <a:off x="6072120" y="2857680"/>
            <a:ext cx="1428840" cy="3571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4470480" cy="303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4549680" y="1643040"/>
            <a:ext cx="3951360" cy="2682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щита электрически уязвимого паци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адёжность медицинской аппа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0" y="571680"/>
            <a:ext cx="91440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Надёжность медицинской аппаратур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способность прибора не отказывать в работе в заданных условиях эксплуатации сохранять свою работоспособность в течение заданного интервала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оличественная оценка надёжност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вероятность безотказной работы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t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t)=N(t)/N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(t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число приборов, работающих  врем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щее число испытывавшихся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лассы аппа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85840" y="571680"/>
            <a:ext cx="857232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лассы аппара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в зависимости от возможных последствий отказа в процессе эксплуа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ласс 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≥ 0,99 – отказ приборов грозит жизни пациента или перс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ласс В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≥ 0,8 – отказ приборов вызывает искажение информации о состоянии здоровья организма. Например, системы, следящие за больными, аппараты для стимуляции серде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2857680" y="4929120"/>
            <a:ext cx="2143080" cy="1184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85840" y="602784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исло отказ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785880" y="435780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тенсивность отказ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2" descr=""/>
          <p:cNvPicPr/>
          <p:nvPr/>
        </p:nvPicPr>
        <p:blipFill>
          <a:blip r:embed="rId1"/>
          <a:stretch/>
        </p:blipFill>
        <p:spPr>
          <a:xfrm>
            <a:off x="2714760" y="4143240"/>
            <a:ext cx="31446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357120" y="2142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1214280" y="142920"/>
            <a:ext cx="1962360" cy="619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158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377960" y="1260000"/>
            <a:ext cx="3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4214880" y="571680"/>
            <a:ext cx="3343320" cy="1800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4"/>
          <p:cNvSpPr/>
          <p:nvPr/>
        </p:nvSpPr>
        <p:spPr>
          <a:xfrm>
            <a:off x="0" y="2257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0" y="1571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4"/>
          <a:stretch/>
        </p:blipFill>
        <p:spPr>
          <a:xfrm>
            <a:off x="357120" y="857160"/>
            <a:ext cx="3457800" cy="1114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0"/>
          <p:cNvSpPr/>
          <p:nvPr/>
        </p:nvSpPr>
        <p:spPr>
          <a:xfrm>
            <a:off x="0" y="1571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0" y="1657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0" y="1657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0" descr=""/>
          <p:cNvPicPr/>
          <p:nvPr/>
        </p:nvPicPr>
        <p:blipFill>
          <a:blip r:embed="rId5"/>
          <a:stretch/>
        </p:blipFill>
        <p:spPr>
          <a:xfrm>
            <a:off x="214200" y="2714760"/>
            <a:ext cx="3000600" cy="1427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9" descr=""/>
          <p:cNvPicPr/>
          <p:nvPr/>
        </p:nvPicPr>
        <p:blipFill>
          <a:blip r:embed="rId6"/>
          <a:stretch/>
        </p:blipFill>
        <p:spPr>
          <a:xfrm>
            <a:off x="3357720" y="2714760"/>
            <a:ext cx="2500200" cy="1449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1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2" descr=""/>
          <p:cNvPicPr/>
          <p:nvPr/>
        </p:nvPicPr>
        <p:blipFill>
          <a:blip r:embed="rId7"/>
          <a:stretch/>
        </p:blipFill>
        <p:spPr>
          <a:xfrm>
            <a:off x="6000840" y="3000240"/>
            <a:ext cx="2795400" cy="7527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4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еспечение качества медицинской аппа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0" y="2714760"/>
            <a:ext cx="2786040" cy="4117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Метрология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ние об измерениях, способах обеспечения их единства и путях приобретения нужной т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3000240" y="2714760"/>
            <a:ext cx="3214800" cy="4117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Стандартизация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—  разработка требований, норм и правил, гарантирующих право потребителя на товар или услугу должного качества, а также право на безопасность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357960" y="2714760"/>
            <a:ext cx="2786040" cy="4117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Сертификация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— установление сертифицирующими органами соответствия продукции, услуги или процесса определенному стандарту или нормативному докум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Соединительная линия уступом 8"/>
          <p:cNvCxnSpPr>
            <a:stCxn id="143" idx="2"/>
            <a:endCxn id="146" idx="0"/>
          </p:cNvCxnSpPr>
          <p:nvPr/>
        </p:nvCxnSpPr>
        <p:spPr>
          <a:xfrm flipH="1" rot="16200000">
            <a:off x="5065560" y="29160"/>
            <a:ext cx="2191320" cy="3180600"/>
          </a:xfrm>
          <a:prstGeom prst="bentConnector3">
            <a:avLst>
              <a:gd name="adj1" fmla="val 50000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8" name="Соединительная линия уступом 10"/>
          <p:cNvCxnSpPr>
            <a:stCxn id="143" idx="2"/>
            <a:endCxn id="144" idx="0"/>
          </p:cNvCxnSpPr>
          <p:nvPr/>
        </p:nvCxnSpPr>
        <p:spPr>
          <a:xfrm rot="5400000">
            <a:off x="1887120" y="30240"/>
            <a:ext cx="2191320" cy="3178800"/>
          </a:xfrm>
          <a:prstGeom prst="bentConnector3">
            <a:avLst>
              <a:gd name="adj1" fmla="val 50000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9" name="Соединительная линия уступом 12"/>
          <p:cNvCxnSpPr/>
          <p:nvPr/>
        </p:nvCxnSpPr>
        <p:spPr>
          <a:xfrm rot="5400000">
            <a:off x="3857760" y="2070720"/>
            <a:ext cx="142956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и, осуществляющие международную стандартиз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0" y="2714760"/>
            <a:ext cx="278604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ая организация по стандартизации (М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3000240" y="2714760"/>
            <a:ext cx="321480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ая электротехническая комиссия (МЭ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6357960" y="2714760"/>
            <a:ext cx="278604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ый союз электросвязи (МС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Соединительная линия уступом 10"/>
          <p:cNvCxnSpPr/>
          <p:nvPr/>
        </p:nvCxnSpPr>
        <p:spPr>
          <a:xfrm rot="5400000">
            <a:off x="-201600" y="1843560"/>
            <a:ext cx="1832760" cy="2520"/>
          </a:xfrm>
          <a:prstGeom prst="bentConnector3">
            <a:avLst>
              <a:gd name="adj1" fmla="val 50000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5" name="Соединительная линия уступом 18"/>
          <p:cNvCxnSpPr/>
          <p:nvPr/>
        </p:nvCxnSpPr>
        <p:spPr>
          <a:xfrm rot="5400000">
            <a:off x="3441960" y="1915200"/>
            <a:ext cx="183276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56" name="Соединительная линия уступом 20"/>
          <p:cNvCxnSpPr/>
          <p:nvPr/>
        </p:nvCxnSpPr>
        <p:spPr>
          <a:xfrm rot="5400000">
            <a:off x="6942240" y="1914840"/>
            <a:ext cx="1832760" cy="2520"/>
          </a:xfrm>
          <a:prstGeom prst="bentConnector3">
            <a:avLst>
              <a:gd name="adj1" fmla="val 50000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57" name="TextBox 21"/>
          <p:cNvSpPr/>
          <p:nvPr/>
        </p:nvSpPr>
        <p:spPr>
          <a:xfrm>
            <a:off x="428760" y="45496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международной стандартизации особое вним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разработке стандартов на продукцию уделяется формированию единых способов испытаний продукции, требований к маркир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Устюжанин В.А. Технические средства диагностики и лечебного воздействия: учебно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обие – Старый Оскол: ТНТ,2019. – 392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КореневскийН.А.,ЮлдашевЗ.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боры,аппараты,системы и комплексы медицинского назначения.Техническое обеспеч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равоохранения, электрофизиологическая техник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бник – Старый Оскол: ТНТ,2019. – 268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КореневскийН.А.,Юлдашев З.М.Приборы,аппараты,системы и комплексы медицинского назначения.Технические средства физиотерапии, реабилитации и восстановления утраченных функций: учебник-Старый Оскол: ТНТ,2020.- 312с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Аксиомы метр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0" y="1000080"/>
            <a:ext cx="9144000" cy="1312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. Любое измерение есть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сравн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0" y="2786040"/>
            <a:ext cx="9144000" cy="1312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. Любое измерение без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априор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и невозмож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0" y="5000760"/>
            <a:ext cx="9144000" cy="1922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. Результат любого измерения без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округл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значения является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случайной величи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ермины метр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0" y="2928960"/>
            <a:ext cx="914400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грешность измерения (абсолютная погрешность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— отклонение результата измерения от истинного значения измеряем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грешность средства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— разность между показанием средства измерений и истинным значением измеряемой физическ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чность средства измер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— характеристика качества средства измерений, отражающая близость его погрешности к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0" y="571680"/>
            <a:ext cx="9144000" cy="228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ая велич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дно из свойств физической системы, процесса или явления, общее в качественном отношении, но в количественном отношении индивидуальное для каждого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ме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нахождение значения физической величины  с помощью технических средств и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щая схема съема, передачи и регистрации медико-биологическ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428760" y="2643120"/>
            <a:ext cx="150012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съё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2214720" y="2643120"/>
            <a:ext cx="1428480" cy="795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ил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6"/>
          <p:cNvSpPr/>
          <p:nvPr/>
        </p:nvSpPr>
        <p:spPr>
          <a:xfrm>
            <a:off x="3929040" y="2643120"/>
            <a:ext cx="107172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Ц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7"/>
          <p:cNvSpPr/>
          <p:nvPr/>
        </p:nvSpPr>
        <p:spPr>
          <a:xfrm>
            <a:off x="5286240" y="2643120"/>
            <a:ext cx="157176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К или 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8"/>
          <p:cNvSpPr/>
          <p:nvPr/>
        </p:nvSpPr>
        <p:spPr>
          <a:xfrm>
            <a:off x="7143840" y="2643120"/>
            <a:ext cx="171432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ображение/Реги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3"/>
          <p:cNvCxnSpPr/>
          <p:nvPr/>
        </p:nvCxnSpPr>
        <p:spPr>
          <a:xfrm>
            <a:off x="142920" y="3071880"/>
            <a:ext cx="286560" cy="2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72" name="Прямая со стрелкой 16"/>
          <p:cNvCxnSpPr/>
          <p:nvPr/>
        </p:nvCxnSpPr>
        <p:spPr>
          <a:xfrm>
            <a:off x="1928880" y="3071880"/>
            <a:ext cx="286560" cy="2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73" name="Прямая со стрелкой 17"/>
          <p:cNvCxnSpPr/>
          <p:nvPr/>
        </p:nvCxnSpPr>
        <p:spPr>
          <a:xfrm>
            <a:off x="6858000" y="3071880"/>
            <a:ext cx="286560" cy="2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74" name="Прямая со стрелкой 18"/>
          <p:cNvCxnSpPr/>
          <p:nvPr/>
        </p:nvCxnSpPr>
        <p:spPr>
          <a:xfrm>
            <a:off x="5000400" y="3071880"/>
            <a:ext cx="286200" cy="2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75" name="Прямая со стрелкой 19"/>
          <p:cNvCxnSpPr/>
          <p:nvPr/>
        </p:nvCxnSpPr>
        <p:spPr>
          <a:xfrm>
            <a:off x="3643200" y="3071880"/>
            <a:ext cx="286560" cy="2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76" name="Прямая со стрелкой 23"/>
          <p:cNvCxnSpPr>
            <a:stCxn id="169" idx="2"/>
          </p:cNvCxnSpPr>
          <p:nvPr/>
        </p:nvCxnSpPr>
        <p:spPr>
          <a:xfrm flipH="1">
            <a:off x="6071400" y="3430080"/>
            <a:ext cx="2520" cy="715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77" name="TextBox 24"/>
          <p:cNvSpPr/>
          <p:nvPr/>
        </p:nvSpPr>
        <p:spPr>
          <a:xfrm>
            <a:off x="5143680" y="41432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стройства съёма медико-биологическ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5"/>
          <p:cNvSpPr/>
          <p:nvPr/>
        </p:nvSpPr>
        <p:spPr>
          <a:xfrm>
            <a:off x="2714760" y="1857240"/>
            <a:ext cx="0" cy="157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9"/>
          <p:cNvSpPr/>
          <p:nvPr/>
        </p:nvSpPr>
        <p:spPr>
          <a:xfrm>
            <a:off x="2714040" y="1857240"/>
            <a:ext cx="4322520" cy="7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23"/>
          <p:cNvSpPr/>
          <p:nvPr/>
        </p:nvSpPr>
        <p:spPr>
          <a:xfrm>
            <a:off x="2714040" y="4071960"/>
            <a:ext cx="242892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25"/>
          <p:cNvSpPr/>
          <p:nvPr/>
        </p:nvSpPr>
        <p:spPr>
          <a:xfrm flipH="1">
            <a:off x="1679400" y="4071960"/>
            <a:ext cx="103536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7"/>
          <p:cNvSpPr/>
          <p:nvPr/>
        </p:nvSpPr>
        <p:spPr>
          <a:xfrm flipH="1">
            <a:off x="1677960" y="5073480"/>
            <a:ext cx="14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9"/>
          <p:cNvSpPr/>
          <p:nvPr/>
        </p:nvSpPr>
        <p:spPr>
          <a:xfrm flipH="1">
            <a:off x="5143680" y="5073480"/>
            <a:ext cx="144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48"/>
          <p:cNvSpPr/>
          <p:nvPr/>
        </p:nvSpPr>
        <p:spPr>
          <a:xfrm>
            <a:off x="4572000" y="500040"/>
            <a:ext cx="2214720" cy="57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50"/>
          <p:cNvSpPr/>
          <p:nvPr/>
        </p:nvSpPr>
        <p:spPr>
          <a:xfrm flipH="1">
            <a:off x="2714400" y="500040"/>
            <a:ext cx="1857240" cy="57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4929120" y="1071720"/>
            <a:ext cx="3714840" cy="7855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лект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714240" y="1071720"/>
            <a:ext cx="4000680" cy="7855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тчики (преобразоват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928800" y="3429000"/>
            <a:ext cx="3571920" cy="6429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иоуправля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0" y="4286160"/>
            <a:ext cx="335772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тивные (генератор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3500280" y="4286160"/>
            <a:ext cx="3286440" cy="78588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ассивные (параметриче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5072040" y="2571840"/>
            <a:ext cx="3929040" cy="15001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  <a:ea typeface="Arial"/>
              </a:rPr>
              <a:t>Энергетическ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Фотоэлект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льтразву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агнитоэлект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3500280" y="5286240"/>
            <a:ext cx="3286440" cy="13575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нду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мк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езисто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3"/>
          <p:cNvSpPr/>
          <p:nvPr/>
        </p:nvSpPr>
        <p:spPr>
          <a:xfrm>
            <a:off x="0" y="5286240"/>
            <a:ext cx="3357720" cy="13575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ьезоэлект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ндук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рмоэлект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285840" y="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Электр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проводники специальной формы, соединяющие биологический объект с электрической цеп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2714760" y="1000080"/>
            <a:ext cx="3000240" cy="459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лект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214200" y="1928880"/>
            <a:ext cx="364356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съёма медико-биологическ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4572000" y="192888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терапевтического воз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Соединительная линия уступом 8"/>
          <p:cNvCxnSpPr>
            <a:stCxn id="196" idx="2"/>
            <a:endCxn id="198" idx="0"/>
          </p:cNvCxnSpPr>
          <p:nvPr/>
        </p:nvCxnSpPr>
        <p:spPr>
          <a:xfrm flipH="1" rot="16200000">
            <a:off x="5105880" y="569520"/>
            <a:ext cx="467640" cy="22518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Соединительная линия уступом 10"/>
          <p:cNvCxnSpPr>
            <a:stCxn id="196" idx="2"/>
            <a:endCxn id="197" idx="0"/>
          </p:cNvCxnSpPr>
          <p:nvPr/>
        </p:nvCxnSpPr>
        <p:spPr>
          <a:xfrm rot="5400000">
            <a:off x="2890800" y="605160"/>
            <a:ext cx="467640" cy="2180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TextBox 11"/>
          <p:cNvSpPr/>
          <p:nvPr/>
        </p:nvSpPr>
        <p:spPr>
          <a:xfrm>
            <a:off x="214200" y="3286080"/>
            <a:ext cx="842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Треб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оказывают воздействия на биологическую тк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бильность пара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создавать пом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гко фиксируются, легко сним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3143160" cy="39704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3500280" y="12859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сопротивление внутренних тканей Б систем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3500280" y="2428920"/>
            <a:ext cx="4613400" cy="642960"/>
          </a:xfrm>
          <a:prstGeom prst="rect">
            <a:avLst/>
          </a:prstGeom>
          <a:ln w="0">
            <a:noFill/>
          </a:ln>
        </p:spPr>
      </p:pic>
      <p:sp>
        <p:nvSpPr>
          <p:cNvPr id="205" name="Правая фигурная скобка 6"/>
          <p:cNvSpPr/>
          <p:nvPr/>
        </p:nvSpPr>
        <p:spPr>
          <a:xfrm rot="5400000">
            <a:off x="5393160" y="2250000"/>
            <a:ext cx="428760" cy="192888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4500720" y="3500280"/>
            <a:ext cx="22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сполезное падение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авая фигурная скобка 8"/>
          <p:cNvSpPr/>
          <p:nvPr/>
        </p:nvSpPr>
        <p:spPr>
          <a:xfrm rot="5400000">
            <a:off x="7429320" y="2571480"/>
            <a:ext cx="428760" cy="128592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1285920"/>
              <a:gd name="textAreaBottom" fmla="*/ 127476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6500880" y="3500280"/>
            <a:ext cx="22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езное регистрируемое 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0" y="5288040"/>
            <a:ext cx="9144000" cy="1758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умень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+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ют влажные салф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согласования сопротивлений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вх 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10-20 раз больш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+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285920" y="0"/>
            <a:ext cx="6715080" cy="48988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785880" y="4919760"/>
            <a:ext cx="792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ятие ЭКГ при погруженных электродах. Оригинальный кембриджский электрокардиограф (1912 г.), изготовленный по соглашению с профессором В. Эйнтховеном, отцом электрокард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4840" cy="2459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/>
          <p:cNvSpPr/>
          <p:nvPr/>
        </p:nvSpPr>
        <p:spPr>
          <a:xfrm>
            <a:off x="0" y="242892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ические пластинчатые электроды. Они обычно изготавливались (или покрывались) из серебра, никеля или аналогичных спла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319640" y="0"/>
            <a:ext cx="4824360" cy="2286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4500720" y="235728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вающие поверхностные элект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1928880" y="4071960"/>
            <a:ext cx="4357800" cy="19429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8"/>
          <p:cNvSpPr/>
          <p:nvPr/>
        </p:nvSpPr>
        <p:spPr>
          <a:xfrm>
            <a:off x="2000160" y="614376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ожный игольчатый электрод для снятия Э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атч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устройства преобразующие неэлектрическую величину в электрический сигнал, удобный для дальнейшего преобразования и реги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42960" y="159552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ункция пре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зависимость выходной электрической величи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 входной (неэлектрической) величи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в идеале зависимость должна быть линейн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Чувствительность да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е входной вел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е выходной величи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инамический диапазо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область входных величин, которые преобразуются датчиком без иск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ремя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минимальный промежуток времени, втечение которого выходная величина достигает уровня, обусловленного входным сигн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429160" y="2809800"/>
            <a:ext cx="1285920" cy="8953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0" y="11430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арактеристики датч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8512200" cy="46432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нергетический да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3880" y="2130480"/>
            <a:ext cx="774396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Предмет медицинской аппаратуры. Техника безопасности. Метрология.</a:t>
            </a:r>
            <a:br>
              <a:rPr sz="5400"/>
            </a:br>
            <a:br>
              <a:rPr sz="5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Лекция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иоуправляемый активный да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000160" y="714240"/>
            <a:ext cx="4714920" cy="37324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428760" y="478620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зоэлектрический преобразов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зоэлектрическая пласт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– элект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усил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000240" y="714240"/>
            <a:ext cx="2376720" cy="55724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иоуправляемый активный да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428760" y="607212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электрический преобразов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иоуправляемый пассивный да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071720" y="928800"/>
            <a:ext cx="7032600" cy="25714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1357200" y="500076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истивный преобраз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286080" y="2928960"/>
            <a:ext cx="2468520" cy="1857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14240" y="857160"/>
            <a:ext cx="2928960" cy="31435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иоуправляемый пассивный да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285840" y="392904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костный преобразов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– подвижный элект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– неподвижный элект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5143680" y="1428840"/>
            <a:ext cx="2165040" cy="13572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иоуправляемый пассивный да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357120" y="450072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уктивный преобразоват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обм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ферромагнитный серд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214800" y="857160"/>
            <a:ext cx="25714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928880" y="3071880"/>
            <a:ext cx="4946760" cy="31366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/>
          <p:cNvSpPr/>
          <p:nvPr/>
        </p:nvSpPr>
        <p:spPr>
          <a:xfrm>
            <a:off x="0" y="500040"/>
            <a:ext cx="91440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силител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устройство, увеличивающее электрический сигнал за счет энергии постороннего исто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ители создаются на основе электронных устройств: транзисторов, триодов и т.д., однако общее устройство едино (представлено на рисунке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хнические характеристики усилителей. Коэффициент уси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2920" y="1714680"/>
            <a:ext cx="457200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 усиления по напряж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1628640" cy="8665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4857840" y="1714680"/>
            <a:ext cx="414324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 усиления по т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2714760" y="3071880"/>
            <a:ext cx="421452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 усиления по мо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5929200" y="2071800"/>
            <a:ext cx="1457280" cy="866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4500720" y="3571920"/>
            <a:ext cx="1542960" cy="8668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7"/>
          <p:cNvSpPr/>
          <p:nvPr/>
        </p:nvSpPr>
        <p:spPr>
          <a:xfrm>
            <a:off x="285840" y="435780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усилении гармонического сигнала используют амплитуды входного и выходного сигна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3" descr=""/>
          <p:cNvPicPr/>
          <p:nvPr/>
        </p:nvPicPr>
        <p:blipFill>
          <a:blip r:embed="rId4"/>
          <a:stretch/>
        </p:blipFill>
        <p:spPr>
          <a:xfrm>
            <a:off x="2928960" y="5286240"/>
            <a:ext cx="2698560" cy="12859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4"/>
          <p:cNvSpPr/>
          <p:nvPr/>
        </p:nvSpPr>
        <p:spPr>
          <a:xfrm>
            <a:off x="0" y="928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Коэффициент уси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вен отношению  приращения сигнала на выходе усилителя к вызвавшему его приращению сигнала на вх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Многокаскадный уси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7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0" y="785880"/>
            <a:ext cx="9015480" cy="24699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2571840" y="3357720"/>
            <a:ext cx="3816360" cy="5713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4481640" y="586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4481640" y="586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8"/>
          <p:cNvSpPr/>
          <p:nvPr/>
        </p:nvSpPr>
        <p:spPr>
          <a:xfrm>
            <a:off x="4481640" y="586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1"/>
          <p:cNvSpPr/>
          <p:nvPr/>
        </p:nvSpPr>
        <p:spPr>
          <a:xfrm>
            <a:off x="4481640" y="586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9"/>
          <p:cNvSpPr/>
          <p:nvPr/>
        </p:nvSpPr>
        <p:spPr>
          <a:xfrm>
            <a:off x="2500200" y="6429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3" descr=""/>
          <p:cNvPicPr/>
          <p:nvPr/>
        </p:nvPicPr>
        <p:blipFill>
          <a:blip r:embed="rId3"/>
          <a:stretch/>
        </p:blipFill>
        <p:spPr>
          <a:xfrm>
            <a:off x="2571840" y="3929040"/>
            <a:ext cx="3833640" cy="9334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5"/>
          <p:cNvSpPr/>
          <p:nvPr/>
        </p:nvSpPr>
        <p:spPr>
          <a:xfrm>
            <a:off x="4481640" y="6390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6" descr=""/>
          <p:cNvPicPr/>
          <p:nvPr/>
        </p:nvPicPr>
        <p:blipFill>
          <a:blip r:embed="rId4"/>
          <a:stretch/>
        </p:blipFill>
        <p:spPr>
          <a:xfrm>
            <a:off x="2214720" y="6000840"/>
            <a:ext cx="4976640" cy="5713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8"/>
          <p:cNvSpPr/>
          <p:nvPr/>
        </p:nvSpPr>
        <p:spPr>
          <a:xfrm>
            <a:off x="4481640" y="-56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9" descr=""/>
          <p:cNvPicPr/>
          <p:nvPr/>
        </p:nvPicPr>
        <p:blipFill>
          <a:blip r:embed="rId5"/>
          <a:stretch/>
        </p:blipFill>
        <p:spPr>
          <a:xfrm>
            <a:off x="3643200" y="4857840"/>
            <a:ext cx="1843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ходное и выходное сопротивления усил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2143080" y="4643280"/>
            <a:ext cx="4950000" cy="10717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0" y="1057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3143160" y="5929200"/>
            <a:ext cx="2692440" cy="6429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8"/>
          <p:cNvSpPr/>
          <p:nvPr/>
        </p:nvSpPr>
        <p:spPr>
          <a:xfrm>
            <a:off x="0" y="762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857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7101000" cy="38577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14200" y="50004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мплитудная характеристика усил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зависимость амплитуды выходного напряжения усилителя от амплитуды входного напряжения на некоторой неизменной частоте сиг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357120" y="51436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линейные (амплитудные) искаж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изменение формы кривой усиливаемых колебаний,  вызванное  нелинейными свойствами цепи, усиливающей колеб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е поля тела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000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ое п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агнитное п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лектромагнитное изл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нфракрасное изл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имое изл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кустическое излу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214200" y="142920"/>
            <a:ext cx="871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отная характеристика усил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зависимость коэффициента усиления от част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нгармонический сигнал усиливается без искажения 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cons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ейные (или частотные) искаж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зменения сигнала в следствие зависимости коэффициента усиления от част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5643720" y="571680"/>
            <a:ext cx="1333440" cy="4474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5857920"/>
            <a:ext cx="857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ω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ω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са пропускания усилителя, в этом диапазоне сигнал практически не искаж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2000160" y="2786040"/>
            <a:ext cx="47498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редупреждение искажений сиг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0" y="857160"/>
            <a:ext cx="9144000" cy="2043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предупреждения частотных искажений следует использовать усилитель шириной пропускания полностью включающей диапазон регистрируемых частот 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0" y="3429000"/>
            <a:ext cx="9144000" cy="2043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предупреждения амплитудных искажений сигнала увеличивают линейный участок амплитудной характеристики  усил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редупреждение искажений сиг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лассификация усил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214200" y="733320"/>
            <a:ext cx="8929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фикация возможна по различны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характеру усиливаемых сигналов: усилители гармонических сигналов, импульсные усилител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ипу применения в конструкции усилителя активных элементов: транзисторные, интегральные, гибри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иду согласования выходного каскада усилителя с нагрузкой: трансформаторные и безтрансформатор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ипу обработки входного сигнала и схеме построения выходного каскада усил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285840" y="7858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силители низкой частоты (УНЧ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лассификация по частному диапаз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214200" y="478620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пазон звуковых частот. Применяют в радио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3429000" y="7858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Усилители постоянного тока (УП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2"/>
          <p:cNvSpPr/>
          <p:nvPr/>
        </p:nvSpPr>
        <p:spPr>
          <a:xfrm>
            <a:off x="6215040" y="7858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збирательные (полосовые) усил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8" descr=""/>
          <p:cNvPicPr/>
          <p:nvPr/>
        </p:nvPicPr>
        <p:blipFill>
          <a:blip r:embed="rId1"/>
          <a:stretch/>
        </p:blipFill>
        <p:spPr>
          <a:xfrm>
            <a:off x="6146640" y="2214720"/>
            <a:ext cx="2997360" cy="2286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2"/>
          <a:stretch/>
        </p:blipFill>
        <p:spPr>
          <a:xfrm>
            <a:off x="0" y="2071800"/>
            <a:ext cx="3087720" cy="23572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6"/>
          <p:cNvSpPr/>
          <p:nvPr/>
        </p:nvSpPr>
        <p:spPr>
          <a:xfrm>
            <a:off x="3286080" y="478620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й диапазон частот включает нулевую частоту (постоянный т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6215040" y="464328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совой рабочий диапазон частот. Бывают узкополосные, широкополос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3"/>
          <a:stretch/>
        </p:blipFill>
        <p:spPr>
          <a:xfrm>
            <a:off x="3071880" y="2071800"/>
            <a:ext cx="3112920" cy="23572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ая соединительная линия 19"/>
          <p:cNvSpPr/>
          <p:nvPr/>
        </p:nvSpPr>
        <p:spPr>
          <a:xfrm flipH="1">
            <a:off x="3071880" y="642960"/>
            <a:ext cx="1440" cy="6215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20"/>
          <p:cNvSpPr/>
          <p:nvPr/>
        </p:nvSpPr>
        <p:spPr>
          <a:xfrm flipH="1">
            <a:off x="6215040" y="642960"/>
            <a:ext cx="1440" cy="62150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Амплитуда биопотенциалов  мала и лежит в диапазоне 0,01-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  Для регистрации необходимо использование усилителей с коэффициентом усиления                   . Вследствие большого коэффициента усиления происходит значительное усиление и посторонних сигналов,  поступающих на вход усилител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осторонние сигналы, искажающие полезный сигнал называются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помехам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 помех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электромагнитные волны, приходящие по эфиру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е электромагнитные поля трансформаторов, являющихся составной частью усилител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силовые и осветительные сети и т.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помехами применяю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заземлени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экраниро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балансные (дифференциальные усилители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собенности регистрации биопотенц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6"/>
              <p:cNvSpPr txBox="1"/>
              <p:nvPr/>
            </p:nvSpPr>
            <p:spPr>
              <a:xfrm>
                <a:off x="6715080" y="1214280"/>
                <a:ext cx="13572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Users\админ\Desktop\сканирование0000.jpg"/>
          <p:cNvPicPr/>
          <p:nvPr/>
        </p:nvPicPr>
        <p:blipFill>
          <a:blip r:embed="rId1"/>
          <a:stretch/>
        </p:blipFill>
        <p:spPr>
          <a:xfrm>
            <a:off x="1500120" y="1000080"/>
            <a:ext cx="6000840" cy="56437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хема образования помех от переменного 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хема подавления синфазной помех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1214280" y="3686040"/>
            <a:ext cx="6858000" cy="3171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1928880" y="785880"/>
            <a:ext cx="57546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налого – цифровой преобразов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АЦ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3000240" y="1785960"/>
            <a:ext cx="2643480" cy="242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АЦ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Прямая со стрелкой 5"/>
          <p:cNvCxnSpPr/>
          <p:nvPr/>
        </p:nvCxnSpPr>
        <p:spPr>
          <a:xfrm>
            <a:off x="1071360" y="3357720"/>
            <a:ext cx="192924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Прямая со стрелкой 6"/>
          <p:cNvCxnSpPr/>
          <p:nvPr/>
        </p:nvCxnSpPr>
        <p:spPr>
          <a:xfrm>
            <a:off x="5643360" y="3357720"/>
            <a:ext cx="192924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TextBox 47"/>
          <p:cNvSpPr/>
          <p:nvPr/>
        </p:nvSpPr>
        <p:spPr>
          <a:xfrm>
            <a:off x="2714760" y="5072040"/>
            <a:ext cx="3214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5400" spc="-1" strike="noStrike" baseline="-25000">
                <a:solidFill>
                  <a:srgbClr val="000000"/>
                </a:solidFill>
                <a:latin typeface="Arial"/>
              </a:rPr>
              <a:t>кв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54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C:\Users\админ\Desktop\605px-SinusRhythmLabels.png"/>
          <p:cNvPicPr/>
          <p:nvPr/>
        </p:nvPicPr>
        <p:blipFill>
          <a:blip r:embed="rId1"/>
          <a:stretch/>
        </p:blipFill>
        <p:spPr>
          <a:xfrm>
            <a:off x="0" y="1143000"/>
            <a:ext cx="2795760" cy="1911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C:\Users\админ\Desktop\605px-SinusRhythmLabels-1.png"/>
          <p:cNvPicPr/>
          <p:nvPr/>
        </p:nvPicPr>
        <p:blipFill>
          <a:blip r:embed="rId2"/>
          <a:stretch/>
        </p:blipFill>
        <p:spPr>
          <a:xfrm>
            <a:off x="5786280" y="1351080"/>
            <a:ext cx="26434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785960" y="857160"/>
            <a:ext cx="5643720" cy="49881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785880" y="56437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гнитоэлектрический вибр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алоговые регистрирующие 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5857560" cy="5029200"/>
          </a:xfrm>
          <a:prstGeom prst="rect">
            <a:avLst/>
          </a:prstGeom>
          <a:ln w="0">
            <a:noFill/>
          </a:ln>
        </p:spPr>
      </p:pic>
      <p:sp>
        <p:nvSpPr>
          <p:cNvPr id="364" name="TextBox 4"/>
          <p:cNvSpPr/>
          <p:nvPr/>
        </p:nvSpPr>
        <p:spPr>
          <a:xfrm>
            <a:off x="357120" y="5643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ктромагнитный вибр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алоговые регистрирующие 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700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изические поля тела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user\Desktop\image.png"/>
          <p:cNvPicPr/>
          <p:nvPr/>
        </p:nvPicPr>
        <p:blipFill>
          <a:blip r:embed="rId1"/>
          <a:srcRect l="26563" t="36112" r="34378" b="16665"/>
          <a:stretch/>
        </p:blipFill>
        <p:spPr>
          <a:xfrm>
            <a:off x="1857240" y="1643040"/>
            <a:ext cx="61977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643040" y="928800"/>
            <a:ext cx="5853240" cy="41432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алоговые регистрирующие 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571680" y="514368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истрирующее устройство с тепловой запис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143080" y="928800"/>
            <a:ext cx="4071960" cy="45226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1071720" y="5643720"/>
            <a:ext cx="66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уйный гальвано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алоговые регистрирующие устр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ы к практическому занятию №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928800"/>
            <a:ext cx="8686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ие поля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ификация медицинской аппа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тпускающий  ток. Защитное заземление. Защитное занул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ектрически уязвимый пацие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ежность медицинской аппара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ы метр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мины метр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ая схема диагностического приб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ификация устройств съема медико-биологической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истика электр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истика датч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ические характеристики усил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ификация усилителей по частотному диапазо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обенности регистрации биопотенци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льный усилит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6.    Аналоговые регистрирующие устрой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АЯ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0" y="1571760"/>
            <a:ext cx="278604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ое оборуд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2928960" y="1571760"/>
            <a:ext cx="321480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я аппа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357960" y="1571760"/>
            <a:ext cx="278604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Соединительная линия уступом 12"/>
          <p:cNvCxnSpPr/>
          <p:nvPr/>
        </p:nvCxnSpPr>
        <p:spPr>
          <a:xfrm rot="5400000">
            <a:off x="4071960" y="999360"/>
            <a:ext cx="100080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2" name="Соединительная линия уступом 17"/>
          <p:cNvCxnSpPr/>
          <p:nvPr/>
        </p:nvCxnSpPr>
        <p:spPr>
          <a:xfrm rot="5400000">
            <a:off x="6965280" y="1035000"/>
            <a:ext cx="1072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3" name="Соединительная линия уступом 18"/>
          <p:cNvCxnSpPr/>
          <p:nvPr/>
        </p:nvCxnSpPr>
        <p:spPr>
          <a:xfrm rot="5400000">
            <a:off x="821520" y="1034640"/>
            <a:ext cx="1072440" cy="2520"/>
          </a:xfrm>
          <a:prstGeom prst="bentConnector3">
            <a:avLst>
              <a:gd name="adj1" fmla="val 50000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4" name="Соединительная линия уступом 24"/>
          <p:cNvCxnSpPr/>
          <p:nvPr/>
        </p:nvCxnSpPr>
        <p:spPr>
          <a:xfrm rot="5400000">
            <a:off x="2571840" y="3071160"/>
            <a:ext cx="100080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65" name="Соединительная линия уступом 25"/>
          <p:cNvCxnSpPr/>
          <p:nvPr/>
        </p:nvCxnSpPr>
        <p:spPr>
          <a:xfrm rot="5400000">
            <a:off x="5286240" y="3070800"/>
            <a:ext cx="1000800" cy="2520"/>
          </a:xfrm>
          <a:prstGeom prst="bentConnector3">
            <a:avLst>
              <a:gd name="adj1" fmla="val 49982"/>
            </a:avLst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66" name="TextBox 26"/>
          <p:cNvSpPr/>
          <p:nvPr/>
        </p:nvSpPr>
        <p:spPr>
          <a:xfrm>
            <a:off x="428760" y="3643200"/>
            <a:ext cx="407196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лектромедицинская аппа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5429160" y="3643200"/>
            <a:ext cx="2786040" cy="13737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аническая медицинская аппа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8"/>
          <p:cNvSpPr/>
          <p:nvPr/>
        </p:nvSpPr>
        <p:spPr>
          <a:xfrm>
            <a:off x="3071880" y="2571840"/>
            <a:ext cx="291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виду используемой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571680" y="1285920"/>
            <a:ext cx="7715160" cy="3141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дицинская аппаратур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это все типы приборов, аппаратов и систем, используемых в клинической медицине и медицинских исследовани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лассификация медицинской аппа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000080" y="642960"/>
            <a:ext cx="750096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АГНОСТИЧЕСКИЕ  ПРИБОРЫ – для регистрации и анализа медико-биологических показателей и физиологически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000080" y="1928880"/>
            <a:ext cx="750096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ЕВТИЧЕСКИЕ  АППАРАТЫ – для воздействия электрическим током , электромагнитным полем, УЗ, лазерным излучением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000080" y="3143160"/>
            <a:ext cx="7500960" cy="703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ГИЧЕСКАЯ ТЕХНИКА – лазерный  и ультразвуковой «скальпель», технические средства микрохирурги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1000080" y="4071960"/>
            <a:ext cx="7500960" cy="703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ИЧЕСКИЕ СРЕДСТВА РЕАБИЛИТАЦИИ – искусственные органы, имплантированные биостимулят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1000080" y="5143680"/>
            <a:ext cx="7500960" cy="131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БОРЫ ДЛЯ ЛАБОРАТОРНОГО АНАЛИЗА – анализаторы биопроб (физико-химические, атомно-физические) для иммунологических исследований, аналитическая аппар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Группа 24" descr=""/>
          <p:cNvPicPr/>
          <p:nvPr/>
        </p:nvPicPr>
        <p:blipFill>
          <a:blip r:embed="rId1"/>
          <a:stretch/>
        </p:blipFill>
        <p:spPr>
          <a:xfrm>
            <a:off x="268200" y="781200"/>
            <a:ext cx="59688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4714920" y="1643040"/>
            <a:ext cx="4143240" cy="3751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Медицинский аппа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это техническое устройство, дозированного терапевтического энергетического воздействия или разрушительного действия (УВЧ, УЗ- терапии, электрический скальпель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ая аппа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14200" y="1643040"/>
            <a:ext cx="4214880" cy="33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Медицинский приб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это техническое устройство предназначенное для диагностических или лечебных измерений (электрокардиограф, сфигмоманометр, томограф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Соединительная линия уступом 7"/>
          <p:cNvCxnSpPr>
            <a:stCxn id="78" idx="2"/>
            <a:endCxn id="77" idx="0"/>
          </p:cNvCxnSpPr>
          <p:nvPr/>
        </p:nvCxnSpPr>
        <p:spPr>
          <a:xfrm flipH="1" rot="16200000">
            <a:off x="5119560" y="-24480"/>
            <a:ext cx="1119960" cy="221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Соединительная линия уступом 9"/>
          <p:cNvCxnSpPr>
            <a:stCxn id="78" idx="2"/>
            <a:endCxn id="79" idx="0"/>
          </p:cNvCxnSpPr>
          <p:nvPr/>
        </p:nvCxnSpPr>
        <p:spPr>
          <a:xfrm rot="5400000">
            <a:off x="2886120" y="-42480"/>
            <a:ext cx="1119960" cy="22518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1"/>
          <p:cNvSpPr/>
          <p:nvPr/>
        </p:nvSpPr>
        <p:spPr>
          <a:xfrm>
            <a:off x="214200" y="53578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медицинской аппаратуры повышает эффективность диагностики и терапии, увеличивает производительность труда медицинского перс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1-29T17:39:32Z</dcterms:modified>
  <cp:revision>122</cp:revision>
  <dc:subject/>
  <dc:title>Слайд 1</dc:title>
</cp:coreProperties>
</file>